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CF1-F98D-45D8-B580-E3A9D307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04A-0BE1-4440-96DF-5EF3F3D3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AD7-4717-45DA-94E3-F098FB4C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379-68BD-4E79-B47F-770CFE30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E58-D785-4393-86C0-6972AD7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BBE-F53B-433C-A9EC-6F7039A1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805-880A-4127-BF33-8AB3C67F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A09-D79C-4065-980F-DDC0A98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272-75F2-4941-A542-FE45FD2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793-BCBC-41F9-8A40-095DC045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67F-BF55-4BF0-864B-AC54D45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69C-060F-4A65-A09E-2AAFA32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AAC-53B2-464F-98F3-C742B17C50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637000"/>
            <a:ext cx="856908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rtin Luther K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2581200" cy="27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09760" cy="236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4720" y="189000"/>
            <a:ext cx="2489400" cy="248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10480" y="3828960"/>
            <a:ext cx="23335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3790800"/>
            <a:ext cx="3276720" cy="26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843280" y="260280"/>
            <a:ext cx="3024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100320"/>
            <a:ext cx="6227640" cy="37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835280" y="0"/>
            <a:ext cx="5400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LD ALANTA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227808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411280" y="260280"/>
            <a:ext cx="35067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S FAMILY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23338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764160" cy="5018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1700280"/>
            <a:ext cx="21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F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55640" y="2421000"/>
            <a:ext cx="71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71640" y="162864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349360"/>
            <a:ext cx="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12000" y="26028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ILDR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7020000" y="765000"/>
            <a:ext cx="73080" cy="79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0"/>
            <a:ext cx="391320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BUS BOYCOT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08480" cy="47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68920" y="449280"/>
            <a:ext cx="437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835280" y="0"/>
            <a:ext cx="51703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HAD A DREAM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484280"/>
            <a:ext cx="7775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I HAVE A DREAM THAT MY FOUR LITTLE CHILDREN WILL ONE DAY WILL LIVE IN A NATION WHERE THEY WILL NOT BE JUDGEED BY THE COLOUR OF THEIR SKIN BUT BY THE SORT OF PERSONS THE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I HAVE A DREAM THAT ONE DAY … ALL OF GODS CHILDREN , BLACK MEN AND WHITE MEN JEWS GENITILES ,PROTESTANTS AND CATHOLICS WILL BE ABLE TO JOIN HANDS AND SING IN THE WORDS OF THE BLACK PEOPLES OLD SONG ,``FREE AT LAST FREE AT LAST THAK GOD ALMIGHTY ,WEARE FREE AT LAST.`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6:49:01Z</dcterms:created>
  <dc:creator>Anthony</dc:creator>
  <dc:description/>
  <dc:language>en-US</dc:language>
  <cp:lastModifiedBy>nb</cp:lastModifiedBy>
  <dcterms:modified xsi:type="dcterms:W3CDTF">2007-03-23T10:45:36Z</dcterms:modified>
  <cp:revision>3</cp:revision>
  <dc:subject/>
  <dc:title>Slide 1</dc:title>
</cp:coreProperties>
</file>